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A97-15F6-4600-8D53-E6B8CD4C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713-0C3F-4466-B5E6-1A3D0BAE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3D0-EDF5-415F-8E91-577ED363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6B8-C202-4E88-B8AF-57A508C1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D40-1F97-4C20-9B7A-3A388AAE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D5B-CB26-4796-9A7A-C9D72D0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1FD-E5FB-4308-ABF6-BCE0C706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0CA-09A5-4619-B061-EEC7E957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A96-F762-46D8-A677-AD1AF9B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1F7-DB97-4839-83D7-21781A5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598-A10F-48DA-8874-1AE9605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C29-54AC-4DD3-885F-B84DCC38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0E70-A975-4135-BBDB-F870D64BA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271440"/>
            <a:ext cx="6276960" cy="623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708280" y="1612800"/>
          <a:ext cx="3586320" cy="34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8280" y="1612800"/>
                    <a:ext cx="3586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flipH="1">
            <a:off x="4743360" y="865080"/>
            <a:ext cx="3672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41880" y="903240"/>
            <a:ext cx="20160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943520" y="930240"/>
            <a:ext cx="26352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6160" y="879480"/>
            <a:ext cx="5410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06840" y="892080"/>
            <a:ext cx="77940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19240" y="798480"/>
            <a:ext cx="12826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49880" y="1273320"/>
            <a:ext cx="107784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97680" y="1754280"/>
            <a:ext cx="1185840" cy="83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073560" y="2244600"/>
            <a:ext cx="106668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82920" y="2674800"/>
            <a:ext cx="101916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130440" y="3143160"/>
            <a:ext cx="87804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167160" y="3500280"/>
            <a:ext cx="88740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154200" y="3757680"/>
            <a:ext cx="8528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121080" y="3966840"/>
            <a:ext cx="93492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107040" y="4163760"/>
            <a:ext cx="876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073560" y="4408200"/>
            <a:ext cx="91260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606640" y="4901760"/>
            <a:ext cx="117468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394240" y="4898520"/>
            <a:ext cx="80496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173560" y="4925880"/>
            <a:ext cx="51768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941360" y="4913280"/>
            <a:ext cx="27468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695480" y="4950000"/>
            <a:ext cx="14292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08480" y="4951080"/>
            <a:ext cx="15732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95840" y="4960440"/>
            <a:ext cx="431640" cy="8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68520" y="4950000"/>
            <a:ext cx="63360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89360" y="4962600"/>
            <a:ext cx="89676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30280" y="4938840"/>
            <a:ext cx="1186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60640" y="917640"/>
            <a:ext cx="39384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79680" y="884160"/>
            <a:ext cx="681120" cy="9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9880" y="798480"/>
            <a:ext cx="85104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41720" y="811080"/>
            <a:ext cx="1269720" cy="10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2120" y="1262160"/>
            <a:ext cx="106668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2480" y="1763640"/>
            <a:ext cx="99360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70000" y="2171880"/>
            <a:ext cx="935280" cy="70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62080" y="2735280"/>
            <a:ext cx="99396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93760" y="3119400"/>
            <a:ext cx="9352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75040" y="3500280"/>
            <a:ext cx="95868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087640" y="3755520"/>
            <a:ext cx="9698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097000" y="3979440"/>
            <a:ext cx="93528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050920" y="4249440"/>
            <a:ext cx="94788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085840" y="4457880"/>
            <a:ext cx="970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432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992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8128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6340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252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752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9040" y="231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16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244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356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1200" y="2811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3560" y="6340320"/>
            <a:ext cx="6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.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2800" y="6340320"/>
            <a:ext cx="5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93480" y="1066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3480" y="15667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4200" y="20430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42080" y="245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93480" y="29415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92760" y="342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2760" y="39164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92760" y="43718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92400" y="48402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2400" y="530208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2400" y="58183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640" y="10447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000" y="154476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" y="202104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240" y="2432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8640" y="29192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8280" y="34066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8280" y="389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8280" y="4349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920" y="48182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920" y="52801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560" y="579600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5:04:31Z</dcterms:created>
  <dc:creator>cal2d</dc:creator>
  <dc:description/>
  <dc:language>en-US</dc:language>
  <cp:lastModifiedBy>Brandon</cp:lastModifiedBy>
  <dcterms:modified xsi:type="dcterms:W3CDTF">2006-06-06T18:21:06Z</dcterms:modified>
  <cp:revision>18</cp:revision>
  <dc:subject/>
  <dc:title>PowerPoint Presentation</dc:title>
</cp:coreProperties>
</file>